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98ECC-F617-42A6-8808-A2DE6C3784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B43D5-4225-418B-9BD6-394286B7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90829-0B3D-4B29-AAB6-8E4DC806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BD9AF-1596-45F4-A928-6AC11D46F5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24D71-BA1B-43AE-A727-B4E277344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A2F14-8DF1-4C98-B374-B8383A70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FAA86-88B1-47EC-846D-E8083D15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B420-8C84-411E-9626-C0C6EEEA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096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E3BC-EBF5-47A6-8636-6BDB8BEA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5F4F7-40C4-48A8-8A4F-1EA682B2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C7A84-F8DF-43DD-B59F-E896D53B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153A0-2E31-41B6-AF0F-FDEB4C78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24760" y="5595840"/>
            <a:ext cx="2151000" cy="152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9D232-F2C5-4C28-BF55-5E382488A9EA}" type="datetime">
              <a:rPr b="0" lang="en-GB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1728C-4094-477B-88AE-50367840B26A}" type="slidenum">
              <a:rPr b="0" lang="en-GB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7920" bIns="0" anchor="t">
            <a:normAutofit fontScale="89000"/>
          </a:bodyPr>
          <a:p>
            <a:pPr marL="305280" indent="0">
              <a:lnSpc>
                <a:spcPct val="98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1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2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3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4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5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  <a:p>
            <a:pPr lvl="6" marL="305280" indent="-30528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LT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utura LT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614520" y="809640"/>
            <a:ext cx="80467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utura LT Book"/>
              </a:rPr>
              <a:t>What are Community Sha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Withdrawable shar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raditional (but forgotten) form for building co-operative and community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809640"/>
            <a:ext cx="6400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Futura LT Book"/>
              </a:rPr>
              <a:t>The Community Shares Re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need (and a business p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ability – leg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he crowd (and a plan to hook th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55560" y="809640"/>
            <a:ext cx="80265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Futura LT Book"/>
              </a:rPr>
              <a:t>Why they work for enterpris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Unregulated by F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heap to 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nvestment puts power in hands of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nvest to create the world you want to liv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‘</a:t>
            </a: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tentially Repayable Philanthropy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Tax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Get 5-10 times what donations bring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Some share issu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Sheffield TV – £160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 </a:t>
            </a: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Positive News – £263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Ethical Consumer – £200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FC United of Manchester - £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Portsmouth FC - £2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8b8b8b"/>
                </a:solidFill>
                <a:latin typeface="Futura LT Book"/>
              </a:rPr>
              <a:t>Highwinds - £3.7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34680" y="809640"/>
            <a:ext cx="79945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Why they might work for 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Very strong global 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eople cherish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Very large global support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Non-consumption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How much could you ra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sitive News: 1525 investors from 33 countries, around 20% of subscriber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Average £172 (though 20% were offline, and offline average was £4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If NI had similar strike rate and average, sum of around £1 at lower end, £4M hig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LT Book"/>
              </a:rPr>
              <a:t>Posi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Selling ownership really has a value, especially to people who cheris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The values behind a Community Share issue are the same values you have always been anima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Futura LT Book"/>
              </a:rPr>
              <a:t>Nega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30000"/>
              </a:lnSpc>
              <a:spcBef>
                <a:spcPts val="561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8b8b8b"/>
                </a:solidFill>
                <a:latin typeface="Futura LT Book"/>
              </a:rPr>
              <a:t>Current situation in which staff are in control would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25400" y="599760"/>
            <a:ext cx="784224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Futura LT Book"/>
              </a:rPr>
              <a:t>Potential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ould have Tageszeitung-style worker co-op jam in community-owned doughn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Could have pure multi-stakeholder co-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5760">
              <a:lnSpc>
                <a:spcPct val="140000"/>
              </a:lnSpc>
              <a:spcBef>
                <a:spcPts val="649"/>
              </a:spcBef>
              <a:buClr>
                <a:srgbClr val="8b8b8b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b8b8b"/>
                </a:solidFill>
                <a:latin typeface="Futura LT Book"/>
              </a:rPr>
              <a:t>Positive News Charter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4T20:33:39Z</dcterms:created>
  <dc:creator>Dave</dc:creator>
  <dc:description/>
  <dc:language>en-US</dc:language>
  <cp:lastModifiedBy>Dave</cp:lastModifiedBy>
  <dcterms:modified xsi:type="dcterms:W3CDTF">2015-07-16T06:48:16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On-screen Show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8</vt:r8>
  </property>
</Properties>
</file>